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88B4-5218-41AD-A6E4-9315EF562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E4E5-16A9-4717-92EE-F26FBD3D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B3F9-0A5D-414E-8A03-7CA44E52D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36A5-ACA4-4BCC-9CE5-F6C876119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607E-554C-446F-AD67-997FD84D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FAE5-6B0E-4EC2-B2EE-FB318580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84CF-1197-4B28-BFD9-D4A7C9FA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DB5F-5496-438F-AB53-DDAF1BB2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6834-47EB-4966-BFBF-239349EB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0459-3087-4ABD-AED5-91BA4A77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95BC-B530-4F80-B3B4-1034423C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2F24-EA90-4D4A-8A0B-72499F29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0535-6E2E-4E83-91F8-3E940F6F0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305920" y="6095880"/>
            <a:ext cx="838080" cy="7621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19320" y="220968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066680" y="22096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elcome to Alma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066680" y="22096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elcome to Alma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66680" y="220968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elcome to Alma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66680" y="220968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elcome to Alma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066680" y="2209680"/>
            <a:ext cx="701064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elcome to Alma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733920" y="2286000"/>
            <a:ext cx="140976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733920" y="2286000"/>
            <a:ext cx="2816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8137440" cy="54212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5292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569080" cy="57103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569080" cy="57085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713800" cy="55972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27120" y="712800"/>
            <a:ext cx="628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49680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важаемые друзья! Мы были рады видеть всех вас в Алматы на семинаре Новых директоров Еврейских общинных центров. Надеемся, что 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так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стречи еще больше сплотят наш народ. Если вам захочется просмотреть обучающую презентацию по работе с программо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Power Point”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жесики Левин в цвете, то вы можете загрузить фаил  на свой компьютер в формат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zip”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репортажа о семинаре на наше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айт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496080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Адрес презентаци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www.mitsva.kz/seminars/new_dir_7_10_02/index.s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03640" y="29973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www.mitsva.k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3645000"/>
            <a:ext cx="46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Желаем удачи в новом деле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10:26:36Z</dcterms:created>
  <dc:creator>Serv</dc:creator>
  <dc:description/>
  <dc:language>en-US</dc:language>
  <cp:lastModifiedBy>admin</cp:lastModifiedBy>
  <dcterms:modified xsi:type="dcterms:W3CDTF">2002-10-11T09:06:43Z</dcterms:modified>
  <cp:revision>9</cp:revision>
  <dc:subject/>
  <dc:title>Презентация PowerPoint</dc:title>
</cp:coreProperties>
</file>